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959-6576-4ADC-BA2C-87703E71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90E-E5BC-423F-AA45-3FBC29C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6F3-70E7-4080-A0A7-4A13611E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BDE-2D74-471A-B286-7A768F24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5C1-AD55-4E7B-BD3B-57D9A031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B34-7DAB-4D8E-B058-9B4C5277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2F6-5E1F-4CB7-BBC1-C918B56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94A-E00E-44FA-99AA-7CC1DD9A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814-64D8-4CA7-8165-EC3241F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831-9858-41A1-838F-E915BDB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18D-F0F4-4B5D-A298-41DA8AC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916-8386-406C-9B9C-52BBD15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9E3-EE72-46F0-9717-243E9D9AED9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2 Chceme byť vžd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e byť vždy blízko t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jvernejší Priateľ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lásky k nám si prišiel z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ašou biedou súcit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raz  i 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i naše útočiš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ám hrozí nepria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hynúť nám nedáš is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rahý náš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raz  i 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eba sa spolieha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nás nikdy nesklam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nde pomoc nehľad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úžení vždy pomôcť v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raz  i  vo večn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8:58:50Z</dcterms:modified>
  <cp:revision>15</cp:revision>
  <dc:subject/>
  <dc:title>Je veľký náš Pán, on slávy je Kráľ Nech do všetkých strán  spev vrúcnych znie chvál.</dc:title>
</cp:coreProperties>
</file>